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jpeg" ContentType="image/jpeg"/>
  <Override PartName="/ppt/media/image17.png" ContentType="image/png"/>
  <Override PartName="/ppt/media/image18.png" ContentType="image/png"/>
  <Override PartName="/ppt/media/image2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C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move the slide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C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DD1F04C-F139-4E02-9606-302CE1F3FBD7}" type="slidenum"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E1D896-3326-4F26-A643-9CC611DFACF0}" type="slidenum">
              <a:rPr b="0" lang="en-C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396C9-6F6B-4933-9A35-2278BD917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21921-2AA7-4F26-853C-7DFE76457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9F37D-6431-47C2-A5BD-FFB1E604E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3BD58-7E6E-49CC-BA3A-475C2A5EB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45A68-CB31-4110-BB3F-9FE862E1F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E01A0-ECEE-4023-809D-093C76A72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2CB6F-BBF6-478B-A579-3CE92BB45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736AC-3D9D-4908-88AD-C4EEEBB8F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703EC-CEDC-4BC0-A1C3-FC92D6CBD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6BD32-87EA-446C-B020-7D0733055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E197E-88BD-40AE-A5BC-6E2514C34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0D34E-6736-460C-A3DF-141E994F0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8F54D-C708-4504-B684-328ABFD99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8C27A-D078-4D89-BF50-AAACB2B13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7CCF3-9BF4-4859-85CF-81F855065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34828-DCA5-417C-B672-D747C43A5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B8EB7-7A15-411F-A496-014CEAF4C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BA7646-EEA4-41C0-8215-0D557CCF2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6786D6-A717-4A7A-825A-A6F8A6809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6E0156-0B67-4545-B903-5321F105A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0CE50A-D378-45D4-B2E2-36F02F840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FDAA01-070D-47DA-B36C-E1D5C2F53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348E5-9D6A-4126-887B-7F4074326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742E7F-FC56-462E-89DA-4501632D5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804325-9A3A-49F1-A463-7D0659DF7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A49655-B80F-468A-A6F9-46A5E6ADE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79643D-8DA0-4A55-8BA5-2D032934F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65C7DC-DECD-4317-87CB-A9BF325D1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407EA5-E125-4057-B312-0627A255E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918981-DDAF-44EE-B064-14572A27C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9AE5C1-D5DF-44FB-A7A5-F1D197028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42B0C6-8F2E-442B-97C0-DC387C8C6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E17682-111E-428A-9ACC-D29E7C517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9793C-B9F1-49A9-B013-DE00016E9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E2F2AA-74C4-4CDA-9E99-A69681B6E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CD1CED-0619-4B48-96D7-678CAFB09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5120BB-9962-42BD-83DA-D1AF4BC54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80BAF4-69D7-46F5-8CF9-9F761DA2B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50376A-3A05-4669-8EBD-F968F94C9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2F8EF7-39A8-4B42-8860-12A5FDDEB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3374D4-40B4-4319-93D2-5E1DA073B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4A96FB-EA94-4EBD-A634-B63229F49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27A518-0990-4400-8BE0-9E3A8D00F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57BD10-E557-41BD-8145-257314663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85E01-9DBF-4542-85AF-F78E4B908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9C3A9D-C645-4DD9-89D8-0B82DE82F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A649A7-796D-41C1-AE12-CCFFFF4A0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497313-F9FC-4EEA-8D7B-D11374C1E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DE2AC8-95DA-410B-AE15-89F1A2C59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F4F418-D451-4B56-9D41-4FE978BA3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9F3221-A7D1-45DD-886A-861F7C5DC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D1E6D6-F95C-4728-BEF3-CC0A65D27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1B5E28-B28C-4096-82C9-F887A07E2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467FB3-746E-4050-9F32-40B75FA76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BFABE8-BC6D-459E-A5DE-357347CEA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E8DEF-ED37-4C45-9087-A62D9CE98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8AC6DE-BB95-40F9-9589-DD84C10B7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AE00DF-84D6-4BE3-B5AA-B6B088238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938D9D-129F-434A-A6C5-5C2D40AB0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AF3774-ADC9-4D1B-AC80-9680B18CF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80F007-5E23-49C2-B792-74307AF60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986522-8929-4FCB-9BF3-B09B80C54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34FAF4-AB94-4A63-8E87-8408AF348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5550F0-9F05-4D59-B669-A8C8BC8F3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BB94E3-0AD6-48B9-8C92-1A8DABF77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1414F4-191F-4EEB-A7C2-DCCD114BC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85860-44CB-47C3-976E-39256A0F3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799BFE-AA11-475C-8470-F1CFE173F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F2E193-423F-47A3-916E-D22C45F39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796C85-BD38-4DCF-9230-FE1BCFBB1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3270A6-DF7F-45F5-A5FA-3769F7D16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7B80B5-8ACF-4D48-AAAF-C7BB3D4FB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16A854-368A-43C7-BDB4-29FC8FFA7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7B5AD7-53B0-4AD1-B04A-804FC1A88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D96B17-1776-4EC3-95D8-47E0F273D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D78CD6-41FF-4968-A533-27A5EFB98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7F7428-186F-488A-B1CD-EC4D806AA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70B98-E50F-4B8C-8C87-C1D86E64A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12F3F6-22A7-468C-9E54-53DFA7B43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96BD9E-3C5D-45B7-9613-1911550DF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82CBA2-66AB-41F0-8719-8B619DD41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B9BA3C-F652-4051-9CCA-80E5B96BD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F4FB6E-5829-4555-B169-E0B7A9A42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2416E-0D34-4579-A510-6F89B7E77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A6CEC8-11B2-4C9D-8AF3-A3560E4E92AD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5B4B60-38D6-4899-850C-BEEA0DC0C7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Isosceles Triangle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C2BEDEA-F47F-4939-AF0A-05004FD9D50B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E159CA-ED41-46DD-A6F7-D9F7A9D4FD55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C50657F-5992-4605-8FA0-8A00B3EF190A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490057-3EEF-4344-B236-CF0D6123F4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ight Triangle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Isosceles Triangle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Straight Connector 12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Straight Connector 14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AFF63C-65BF-4FFD-8222-255FA69AF07B}" type="datetime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C41193E-2026-4AFA-A73D-8E9D4F843CD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E07536A-315E-425E-8602-3150DA3C914F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CE204E9-62B7-481C-87A8-76B79E1407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087BCB-56F8-481D-9678-BEDFAB0DB870}" type="datetime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2C0D3E6-C0DF-4184-96D9-B123A6EE4969}" type="slidenum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952DE14-9C32-4FBC-AFFF-3E2527F35A0F}" type="datetime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1D87CAD-10DA-400B-B030-CBE1557AA4EA}" type="slidenum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hyperlink" Target="http://highered.mcgraw-hill.com/olc/dl/120076/micro04.swf" TargetMode="External"/><Relationship Id="rId3" Type="http://schemas.openxmlformats.org/officeDocument/2006/relationships/hyperlink" Target="http://highered.mcgraw-hill.com/olc/dl/120076/bio23.swf" TargetMode="External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hyperlink" Target="http://www.youtube.com/watch?v=dIZpb93NYlw" TargetMode="External"/><Relationship Id="rId3" Type="http://schemas.openxmlformats.org/officeDocument/2006/relationships/hyperlink" Target="http://www.explorelearning.com/index.cfm?method=cResource.dspDetail&amp;ResourceID=439" TargetMode="External"/><Relationship Id="rId4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hyperlink" Target="http://www.wiley.com/college/pratt/0471393878/student/animations/dna_replication/index.html" TargetMode="External"/><Relationship Id="rId3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hyperlink" Target="http://www.dnai.org/timeline/index.html" TargetMode="External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hyperlink" Target="http://www.youtube.com/watch?v=ZGHkHMoyC5I" TargetMode="External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highered.mcgraw-hill.com/olc/dl/120076/bio22.swf" TargetMode="External"/><Relationship Id="rId2" Type="http://schemas.openxmlformats.org/officeDocument/2006/relationships/hyperlink" Target="http://www.sumanasinc.com/webcontent/animations/content/meselson.html" TargetMode="External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Title 3" descr=""/>
          <p:cNvPicPr/>
          <p:nvPr/>
        </p:nvPicPr>
        <p:blipFill>
          <a:blip r:embed="rId1"/>
          <a:stretch/>
        </p:blipFill>
        <p:spPr>
          <a:xfrm>
            <a:off x="536400" y="768240"/>
            <a:ext cx="8442360" cy="1481400"/>
          </a:xfrm>
          <a:prstGeom prst="rect">
            <a:avLst/>
          </a:prstGeom>
          <a:ln w="0">
            <a:noFill/>
          </a:ln>
        </p:spPr>
      </p:pic>
      <p:pic>
        <p:nvPicPr>
          <p:cNvPr id="309" name="Title 3" descr=""/>
          <p:cNvPicPr/>
          <p:nvPr/>
        </p:nvPicPr>
        <p:blipFill>
          <a:blip r:embed="rId2"/>
          <a:stretch/>
        </p:blipFill>
        <p:spPr>
          <a:xfrm>
            <a:off x="689040" y="2389320"/>
            <a:ext cx="8229600" cy="148752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6" descr=""/>
          <p:cNvPicPr/>
          <p:nvPr/>
        </p:nvPicPr>
        <p:blipFill>
          <a:blip r:embed="rId3"/>
          <a:stretch/>
        </p:blipFill>
        <p:spPr>
          <a:xfrm rot="2214000">
            <a:off x="1258560" y="3200040"/>
            <a:ext cx="3632040" cy="27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Title 1" descr=""/>
          <p:cNvPicPr/>
          <p:nvPr/>
        </p:nvPicPr>
        <p:blipFill>
          <a:blip r:embed="rId1"/>
          <a:stretch/>
        </p:blipFill>
        <p:spPr>
          <a:xfrm>
            <a:off x="450720" y="212760"/>
            <a:ext cx="8242560" cy="1457280"/>
          </a:xfrm>
          <a:prstGeom prst="rect">
            <a:avLst/>
          </a:prstGeom>
          <a:ln w="0">
            <a:noFill/>
          </a:ln>
        </p:spPr>
      </p:pic>
      <p:sp>
        <p:nvSpPr>
          <p:cNvPr id="337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ffffff"/>
                </a:solidFill>
                <a:latin typeface="Century Gothic"/>
              </a:rPr>
              <a:t>Key Enzymes: DNA Helicase, Single Stranded Binding Proteins (SSBs), DNA Gyr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ffffff"/>
                </a:solidFill>
                <a:latin typeface="Century Gothic"/>
              </a:rPr>
              <a:t>Replication Fork vs. Replication Bubbl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38" name="Picture 5" descr=""/>
          <p:cNvPicPr/>
          <p:nvPr/>
        </p:nvPicPr>
        <p:blipFill>
          <a:blip r:embed="rId2"/>
          <a:stretch/>
        </p:blipFill>
        <p:spPr>
          <a:xfrm>
            <a:off x="546120" y="3800520"/>
            <a:ext cx="3510000" cy="293040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6" descr=""/>
          <p:cNvPicPr/>
          <p:nvPr/>
        </p:nvPicPr>
        <p:blipFill>
          <a:blip r:embed="rId3"/>
          <a:stretch/>
        </p:blipFill>
        <p:spPr>
          <a:xfrm>
            <a:off x="4538520" y="3843360"/>
            <a:ext cx="4259520" cy="28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 txBox="1"/>
          <p:nvPr/>
        </p:nvSpPr>
        <p:spPr>
          <a:xfrm>
            <a:off x="457200" y="145368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Century Gothic"/>
              </a:rPr>
              <a:t>Key Enzymes: DNA Polymerase I and III, Primase, DNA Ligase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Century Gothic"/>
              </a:rPr>
              <a:t>Key Terms: RNA Primers, Leading and Lagging Strands, Okazaki Fragments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42" name="Picture 2" descr=""/>
          <p:cNvPicPr/>
          <p:nvPr/>
        </p:nvPicPr>
        <p:blipFill>
          <a:blip r:embed="rId2"/>
          <a:stretch/>
        </p:blipFill>
        <p:spPr>
          <a:xfrm>
            <a:off x="911160" y="3067200"/>
            <a:ext cx="7220160" cy="3684600"/>
          </a:xfrm>
          <a:prstGeom prst="rect">
            <a:avLst/>
          </a:prstGeom>
          <a:ln w="0">
            <a:noFill/>
          </a:ln>
        </p:spPr>
      </p:pic>
      <p:sp>
        <p:nvSpPr>
          <p:cNvPr id="343" name="Rectangle 5"/>
          <p:cNvSpPr/>
          <p:nvPr/>
        </p:nvSpPr>
        <p:spPr>
          <a:xfrm>
            <a:off x="942840" y="3078000"/>
            <a:ext cx="4797720" cy="6890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Rectangle 6"/>
          <p:cNvSpPr/>
          <p:nvPr/>
        </p:nvSpPr>
        <p:spPr>
          <a:xfrm>
            <a:off x="5740560" y="3078000"/>
            <a:ext cx="1144440" cy="3477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Title 1" descr=""/>
          <p:cNvPicPr/>
          <p:nvPr/>
        </p:nvPicPr>
        <p:blipFill>
          <a:blip r:embed="rId1"/>
          <a:stretch/>
        </p:blipFill>
        <p:spPr>
          <a:xfrm>
            <a:off x="450720" y="128520"/>
            <a:ext cx="8242560" cy="1414440"/>
          </a:xfrm>
          <a:prstGeom prst="rect">
            <a:avLst/>
          </a:prstGeom>
          <a:ln w="0">
            <a:noFill/>
          </a:ln>
        </p:spPr>
      </p:pic>
      <p:sp>
        <p:nvSpPr>
          <p:cNvPr id="346" name=""/>
          <p:cNvSpPr txBox="1"/>
          <p:nvPr/>
        </p:nvSpPr>
        <p:spPr>
          <a:xfrm>
            <a:off x="457200" y="1387440"/>
            <a:ext cx="8229600" cy="506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Century Gothic"/>
              </a:rPr>
              <a:t>Synthesis of Lagging Strand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47" name="Picture 2" descr=""/>
          <p:cNvPicPr/>
          <p:nvPr/>
        </p:nvPicPr>
        <p:blipFill>
          <a:blip r:embed="rId2"/>
          <a:stretch/>
        </p:blipFill>
        <p:spPr>
          <a:xfrm>
            <a:off x="1395360" y="1884240"/>
            <a:ext cx="6350040" cy="480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 txBox="1"/>
          <p:nvPr/>
        </p:nvSpPr>
        <p:spPr>
          <a:xfrm>
            <a:off x="457200" y="13222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ffffff"/>
                </a:solidFill>
                <a:latin typeface="Century Gothic"/>
              </a:rPr>
              <a:t>Key Enzymes: DNA polymerase I and III act as exonuc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50" name="Picture 2" descr=""/>
          <p:cNvPicPr/>
          <p:nvPr/>
        </p:nvPicPr>
        <p:blipFill>
          <a:blip r:embed="rId2"/>
          <a:stretch/>
        </p:blipFill>
        <p:spPr>
          <a:xfrm>
            <a:off x="2681280" y="2316240"/>
            <a:ext cx="3532320" cy="439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52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ffffff"/>
                </a:solidFill>
                <a:latin typeface="Century Gothic"/>
              </a:rPr>
              <a:t>The students will be shown animations: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649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 u="sng">
                <a:solidFill>
                  <a:srgbClr val="17bbfd"/>
                </a:solidFill>
                <a:uFillTx/>
                <a:latin typeface="Century Gothic"/>
                <a:hlinkClick r:id="rId2"/>
              </a:rPr>
              <a:t>http://highered.mcgraw-hill.com/olc/dl/120076/micro04.swf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649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 u="sng">
                <a:solidFill>
                  <a:srgbClr val="17bbfd"/>
                </a:solidFill>
                <a:uFillTx/>
                <a:latin typeface="Century Gothic"/>
                <a:hlinkClick r:id="rId3"/>
              </a:rPr>
              <a:t>http://highered.mcgraw-hill.com/olc/dl/120076/bio23.swf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ffffff"/>
                </a:solidFill>
                <a:latin typeface="Century Gothic"/>
              </a:rPr>
              <a:t>Whole-Class Replication Role-Pla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649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ffffff"/>
                </a:solidFill>
                <a:latin typeface="Century Gothic"/>
              </a:rPr>
              <a:t>Each student acts as a nucleotide. Hands are used to form bonds. (Explained fully in summary)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Title 1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242560" cy="1547640"/>
          </a:xfrm>
          <a:prstGeom prst="rect">
            <a:avLst/>
          </a:prstGeom>
          <a:ln w="0">
            <a:noFill/>
          </a:ln>
        </p:spPr>
      </p:pic>
      <p:sp>
        <p:nvSpPr>
          <p:cNvPr id="354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entury Gothic"/>
              </a:rPr>
              <a:t>1) Visual: Students will make a sketch or diagram of the process of DNA replication. (K/I)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entury Gothic"/>
              </a:rPr>
              <a:t>2) Musical: Students will listen to the DNA replication song and write another verse for the song. (K/I/C/A)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17bbfd"/>
                </a:solidFill>
                <a:uFillTx/>
                <a:latin typeface="Century Gothic"/>
                <a:hlinkClick r:id="rId2"/>
              </a:rPr>
              <a:t>http://www.youtube.com/watch?v=dIZpb93NYlw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entury Gothic"/>
              </a:rPr>
              <a:t>3) Kinesthetic: Students will design an explanation for DNA replication using body/hand actions. (K/I/C/A)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entury Gothic"/>
              </a:rPr>
              <a:t>4) Linguistic: Students will imagine being a DNA molecule and write a story explaining how they are copied. (K/I/C)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entury Gothic"/>
              </a:rPr>
              <a:t>5) Intrapersonal: Students will write explaining what they found to be fascinating about DNA replication. (K/I/C/A)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entury Gothic"/>
              </a:rPr>
              <a:t>6) Interpersonal: Students will explain their understanding of DNA replication to their partners. (K/I/C)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entury Gothic"/>
              </a:rPr>
              <a:t>7) Logical: Students will perform the DNA replication gizmo at 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17bbfd"/>
                </a:solidFill>
                <a:uFillTx/>
                <a:latin typeface="Century Gothic"/>
                <a:hlinkClick r:id="rId3"/>
              </a:rPr>
              <a:t>http://www.explorelearning.com/index.cfm?method=cResource.dspDetail&amp;ResourceID=439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entury Gothic"/>
              </a:rPr>
              <a:t>Students will be given a copy of the ‘Student Exploration Sheet’ found on the website. (K/I/C/A)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entury Gothic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entury Gothic"/>
              </a:rPr>
              <a:t>Summative Assessment will take place at the end of the genetics unit in the form of a Unit Test.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Title 4" descr=""/>
          <p:cNvPicPr/>
          <p:nvPr/>
        </p:nvPicPr>
        <p:blipFill>
          <a:blip r:embed="rId1"/>
          <a:stretch/>
        </p:blipFill>
        <p:spPr>
          <a:xfrm>
            <a:off x="165240" y="237960"/>
            <a:ext cx="7759440" cy="1401840"/>
          </a:xfrm>
          <a:prstGeom prst="rect">
            <a:avLst/>
          </a:prstGeom>
          <a:ln w="0">
            <a:noFill/>
          </a:ln>
        </p:spPr>
      </p:pic>
      <p:sp>
        <p:nvSpPr>
          <p:cNvPr id="356" name="PlaceHolder 1"/>
          <p:cNvSpPr>
            <a:spLocks noGrp="1"/>
          </p:cNvSpPr>
          <p:nvPr>
            <p:ph/>
          </p:nvPr>
        </p:nvSpPr>
        <p:spPr>
          <a:xfrm>
            <a:off x="380880" y="1633320"/>
            <a:ext cx="7452000" cy="485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000">
              <a:lnSpc>
                <a:spcPct val="90000"/>
              </a:lnSpc>
              <a:spcBef>
                <a:spcPts val="476"/>
              </a:spcBef>
              <a:buClr>
                <a:srgbClr val="ff388c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9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CA" sz="1900" spc="-1" strike="noStrike">
                <a:solidFill>
                  <a:srgbClr val="ffffff"/>
                </a:solidFill>
                <a:latin typeface="Century Gothic"/>
              </a:rPr>
              <a:t>The students may find it difficult to understand the procedure and conclusions of the Meselson and Stahl experiment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90000"/>
              </a:lnSpc>
              <a:spcBef>
                <a:spcPts val="425"/>
              </a:spcBef>
              <a:buClr>
                <a:srgbClr val="ff388c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700" spc="-1" strike="noStrike">
                <a:solidFill>
                  <a:srgbClr val="ffffff"/>
                </a:solidFill>
                <a:latin typeface="Century Gothic"/>
              </a:rPr>
              <a:t>Explain each step in detail using illustrations and drawings</a:t>
            </a: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  <a:p>
            <a:pPr marL="54000">
              <a:lnSpc>
                <a:spcPct val="90000"/>
              </a:lnSpc>
              <a:spcBef>
                <a:spcPts val="476"/>
              </a:spcBef>
              <a:buClr>
                <a:srgbClr val="ff388c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9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CA" sz="1900" spc="-1" strike="noStrike">
                <a:solidFill>
                  <a:srgbClr val="ffffff"/>
                </a:solidFill>
                <a:latin typeface="Century Gothic"/>
              </a:rPr>
              <a:t>The students may have a difficult time visualizing the concept of DNA replication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90000"/>
              </a:lnSpc>
              <a:spcBef>
                <a:spcPts val="425"/>
              </a:spcBef>
              <a:buClr>
                <a:srgbClr val="ff388c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700" spc="-1" strike="noStrike">
                <a:solidFill>
                  <a:srgbClr val="ffffff"/>
                </a:solidFill>
                <a:latin typeface="Century Gothic"/>
              </a:rPr>
              <a:t>Show the animations multiple times</a:t>
            </a: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  <a:p>
            <a:pPr marL="54000">
              <a:lnSpc>
                <a:spcPct val="90000"/>
              </a:lnSpc>
              <a:spcBef>
                <a:spcPts val="476"/>
              </a:spcBef>
              <a:buClr>
                <a:srgbClr val="ff388c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9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CA" sz="1900" spc="-1" strike="noStrike">
                <a:solidFill>
                  <a:srgbClr val="ffffff"/>
                </a:solidFill>
                <a:latin typeface="Century Gothic"/>
              </a:rPr>
              <a:t>The students may have difficulty keeping track of all the enzymes involved in replication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90000"/>
              </a:lnSpc>
              <a:spcBef>
                <a:spcPts val="425"/>
              </a:spcBef>
              <a:buClr>
                <a:srgbClr val="ff388c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700" spc="-1" strike="noStrike">
                <a:solidFill>
                  <a:srgbClr val="ffffff"/>
                </a:solidFill>
                <a:latin typeface="Century Gothic"/>
              </a:rPr>
              <a:t>Create a word wall with all the important terms</a:t>
            </a: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  <a:p>
            <a:pPr marL="54000">
              <a:lnSpc>
                <a:spcPct val="90000"/>
              </a:lnSpc>
              <a:spcBef>
                <a:spcPts val="476"/>
              </a:spcBef>
              <a:buClr>
                <a:srgbClr val="ff388c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9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CA" sz="1900" spc="-1" strike="noStrike">
                <a:solidFill>
                  <a:srgbClr val="ffffff"/>
                </a:solidFill>
                <a:latin typeface="Century Gothic"/>
              </a:rPr>
              <a:t>The students may get confused about the lagging strand replication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90000"/>
              </a:lnSpc>
              <a:spcBef>
                <a:spcPts val="425"/>
              </a:spcBef>
              <a:buClr>
                <a:srgbClr val="ff388c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700" spc="-1" strike="noStrike">
                <a:solidFill>
                  <a:srgbClr val="ffffff"/>
                </a:solidFill>
                <a:latin typeface="Century Gothic"/>
              </a:rPr>
              <a:t>Emphasize that DNA strands are antiparallel and DNA polymerase III synthesizes only in the 5’ to 3’ direction. </a:t>
            </a: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  <a:p>
            <a:pPr marL="54000">
              <a:lnSpc>
                <a:spcPct val="90000"/>
              </a:lnSpc>
              <a:spcBef>
                <a:spcPts val="476"/>
              </a:spcBef>
              <a:buClr>
                <a:srgbClr val="ff388c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9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CA" sz="1900" spc="-1" strike="noStrike">
                <a:solidFill>
                  <a:srgbClr val="ffffff"/>
                </a:solidFill>
                <a:latin typeface="Century Gothic"/>
              </a:rPr>
              <a:t>The following tutorial can be used to reiterate concepts:</a:t>
            </a:r>
            <a:br>
              <a:rPr sz="1900"/>
            </a:br>
            <a:r>
              <a:rPr b="0" lang="en-CA" sz="1900" spc="-1" strike="noStrike" u="sng">
                <a:solidFill>
                  <a:srgbClr val="17bbfd"/>
                </a:solidFill>
                <a:uFillTx/>
                <a:latin typeface="Century Gothic"/>
                <a:hlinkClick r:id="rId2"/>
              </a:rPr>
              <a:t>http://www.wiley.com/college/pratt/0471393878/student/animations/dna_replication/index.htm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Title 1" descr=""/>
          <p:cNvPicPr/>
          <p:nvPr/>
        </p:nvPicPr>
        <p:blipFill>
          <a:blip r:embed="rId1"/>
          <a:stretch/>
        </p:blipFill>
        <p:spPr>
          <a:xfrm>
            <a:off x="189000" y="255600"/>
            <a:ext cx="7424640" cy="939960"/>
          </a:xfrm>
          <a:prstGeom prst="rect">
            <a:avLst/>
          </a:prstGeom>
          <a:ln w="0">
            <a:noFill/>
          </a:ln>
        </p:spPr>
      </p:pic>
      <p:pic>
        <p:nvPicPr>
          <p:cNvPr id="358" name="Subtitle 2" descr=""/>
          <p:cNvPicPr/>
          <p:nvPr/>
        </p:nvPicPr>
        <p:blipFill>
          <a:blip r:embed="rId2"/>
          <a:stretch/>
        </p:blipFill>
        <p:spPr>
          <a:xfrm>
            <a:off x="49320" y="1255680"/>
            <a:ext cx="8362800" cy="463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Title 1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242560" cy="1547640"/>
          </a:xfrm>
          <a:prstGeom prst="rect">
            <a:avLst/>
          </a:prstGeom>
          <a:ln w="0">
            <a:noFill/>
          </a:ln>
        </p:spPr>
      </p:pic>
      <p:sp>
        <p:nvSpPr>
          <p:cNvPr id="360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4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ffff"/>
                </a:solidFill>
                <a:latin typeface="Century Gothic"/>
              </a:rPr>
              <a:t>Model building, role play and animations will help the entire class including ELL and special needs students to visualize the abstract structure of DNA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ffff"/>
                </a:solidFill>
                <a:latin typeface="Century Gothic"/>
              </a:rPr>
              <a:t>Posting a word wall with the new vocabulary related to DNA structure and replication process will help the ELLs and special need students in writing tasks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ffff"/>
                </a:solidFill>
                <a:latin typeface="Century Gothic"/>
              </a:rPr>
              <a:t>Extra attention and time will be given to ELLs and special needs students during classroom discussions and in computer lab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ffff"/>
                </a:solidFill>
                <a:latin typeface="Century Gothic"/>
              </a:rPr>
              <a:t>Peer assistant will be encouraged in the classroom assignments by heterogeneous grouping of students.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Title 1"/>
          <p:cNvSpPr/>
          <p:nvPr/>
        </p:nvSpPr>
        <p:spPr>
          <a:xfrm>
            <a:off x="333360" y="571680"/>
            <a:ext cx="7499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2" name="Title 5" descr=""/>
          <p:cNvPicPr/>
          <p:nvPr/>
        </p:nvPicPr>
        <p:blipFill>
          <a:blip r:embed="rId1"/>
          <a:stretch/>
        </p:blipFill>
        <p:spPr>
          <a:xfrm>
            <a:off x="165240" y="268200"/>
            <a:ext cx="7461000" cy="1371600"/>
          </a:xfrm>
          <a:prstGeom prst="rect">
            <a:avLst/>
          </a:prstGeom>
          <a:ln w="0">
            <a:noFill/>
          </a:ln>
        </p:spPr>
      </p:pic>
      <p:sp>
        <p:nvSpPr>
          <p:cNvPr id="363" name="PlaceHolder 1"/>
          <p:cNvSpPr>
            <a:spLocks noGrp="1"/>
          </p:cNvSpPr>
          <p:nvPr>
            <p:ph/>
          </p:nvPr>
        </p:nvSpPr>
        <p:spPr>
          <a:xfrm>
            <a:off x="380880" y="1633320"/>
            <a:ext cx="7452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000">
              <a:spcBef>
                <a:spcPts val="601"/>
              </a:spcBef>
              <a:buClr>
                <a:srgbClr val="ff388c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CA" sz="2400" spc="-1" strike="noStrike">
                <a:solidFill>
                  <a:srgbClr val="ffffff"/>
                </a:solidFill>
                <a:latin typeface="Century Gothic"/>
              </a:rPr>
              <a:t>DNA analysis can be used to: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601"/>
              </a:spcBef>
              <a:buClr>
                <a:srgbClr val="ff388c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Century Gothic"/>
              </a:rPr>
              <a:t>Solve crimes  (homicide)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601"/>
              </a:spcBef>
              <a:buClr>
                <a:srgbClr val="ff388c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Century Gothic"/>
              </a:rPr>
              <a:t>Identify human remains (missing persons, disasters)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601"/>
              </a:spcBef>
              <a:buClr>
                <a:srgbClr val="ff388c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Century Gothic"/>
              </a:rPr>
              <a:t>Determine relationship between family members (paternity, child abductions)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601"/>
              </a:spcBef>
              <a:buClr>
                <a:srgbClr val="ff388c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Century Gothic"/>
              </a:rPr>
              <a:t>Medical Research (genetic diseases, drugs)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601"/>
              </a:spcBef>
              <a:buClr>
                <a:srgbClr val="ff388c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Century Gothic"/>
              </a:rPr>
              <a:t>Agriculture and Horticulture (genetically modified organisms)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601"/>
              </a:spcBef>
              <a:buClr>
                <a:srgbClr val="ff388c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Century Gothic"/>
              </a:rPr>
              <a:t>Animal Husbandry (genetically modified animals)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12" name=""/>
          <p:cNvSpPr txBox="1"/>
          <p:nvPr/>
        </p:nvSpPr>
        <p:spPr>
          <a:xfrm>
            <a:off x="708120" y="1375920"/>
            <a:ext cx="38354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7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We have seen detectives on TV and movies getting excited about finding hair or skin or other body cells on the crime scene. Why?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7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7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Exactly the same DNA is contained in every single cell in our bodies! Have you ever wondered how that is possible?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7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7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ells are capable of giving rise to a new generation of cells by undergoing DNA replication and cell division.</a:t>
            </a: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  We are going to study how DNA is replicated so that each new cell gets the same copy in its nucleus.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13" name="Picture 8" descr=""/>
          <p:cNvPicPr/>
          <p:nvPr/>
        </p:nvPicPr>
        <p:blipFill>
          <a:blip r:embed="rId2"/>
          <a:srcRect l="6002" t="0" r="15465" b="0"/>
          <a:stretch/>
        </p:blipFill>
        <p:spPr>
          <a:xfrm>
            <a:off x="4781520" y="1535040"/>
            <a:ext cx="3113280" cy="399564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9" descr=""/>
          <p:cNvPicPr/>
          <p:nvPr/>
        </p:nvPicPr>
        <p:blipFill>
          <a:blip r:embed="rId3"/>
          <a:stretch/>
        </p:blipFill>
        <p:spPr>
          <a:xfrm>
            <a:off x="7894800" y="2247840"/>
            <a:ext cx="666720" cy="15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Title 1" descr=""/>
          <p:cNvPicPr/>
          <p:nvPr/>
        </p:nvPicPr>
        <p:blipFill>
          <a:blip r:embed="rId1"/>
          <a:stretch/>
        </p:blipFill>
        <p:spPr>
          <a:xfrm>
            <a:off x="212760" y="133200"/>
            <a:ext cx="927000" cy="657864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/>
          </p:nvPr>
        </p:nvSpPr>
        <p:spPr>
          <a:xfrm>
            <a:off x="1142640" y="150840"/>
            <a:ext cx="7334280" cy="6402240"/>
          </a:xfrm>
          <a:prstGeom prst="rect">
            <a:avLst/>
          </a:prstGeom>
          <a:solidFill>
            <a:srgbClr val="ff388c">
              <a:alpha val="15000"/>
            </a:srgbClr>
          </a:solidFill>
          <a:ln w="9360">
            <a:solidFill>
              <a:srgbClr val="ff388c"/>
            </a:solidFill>
            <a:miter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entury Gothic"/>
              </a:rPr>
              <a:t>Thomson Nelson Limited. (2003). </a:t>
            </a:r>
            <a:r>
              <a:rPr b="0" i="1" lang="en-US" sz="1400" spc="-1" strike="noStrike">
                <a:solidFill>
                  <a:srgbClr val="ffffff"/>
                </a:solidFill>
                <a:latin typeface="Century Gothic"/>
              </a:rPr>
              <a:t>Biology 12</a:t>
            </a:r>
            <a:r>
              <a:rPr b="0" lang="en-US" sz="1400" spc="-1" strike="noStrike">
                <a:solidFill>
                  <a:srgbClr val="ffffff"/>
                </a:solidFill>
                <a:latin typeface="Century Gothic"/>
              </a:rPr>
              <a:t>. Toronto, Ontario: Author.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entury Gothic"/>
              </a:rPr>
              <a:t>This textbook was the source for background information and was also used for organizing the lessons. 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entury Gothic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ffff"/>
                </a:solidFill>
                <a:uFillTx/>
                <a:latin typeface="Century Gothic"/>
              </a:rPr>
              <a:t>http://www.accessexcellence.org/RC/AB/WYW/wkbooks/SFTS/activity2.php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entury Gothic"/>
              </a:rPr>
              <a:t>This website was used to form Activity # 1 that is used in reviewing DNA composition and structure.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entury Gothic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ffff"/>
                </a:solidFill>
                <a:uFillTx/>
                <a:latin typeface="Century Gothic"/>
              </a:rPr>
              <a:t>http://highered.mcgraw-hill.com/olc/dl/120076/bio22.swf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entury Gothic"/>
              </a:rPr>
              <a:t>This animation was used to explain the Meselson and Stahl Experiment.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entury Gothic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ffff"/>
                </a:solidFill>
                <a:uFillTx/>
                <a:latin typeface="Century Gothic"/>
              </a:rPr>
              <a:t>http://www.sumanasinc.com/webcontent/animations/content/meselson.html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entury Gothic"/>
              </a:rPr>
              <a:t>This virtual lab was used as assessment for the Meselson and Stahl Experiment.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entury Gothic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ffff"/>
                </a:solidFill>
                <a:uFillTx/>
                <a:latin typeface="Century Gothic"/>
              </a:rPr>
              <a:t>http://highered.mcgraw-hill.com/olc/dl/120076/micro04.swf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ffff"/>
                </a:solidFill>
                <a:uFillTx/>
                <a:latin typeface="Century Gothic"/>
              </a:rPr>
              <a:t>http://highered.mcgraw-hill.com/olc/dl/120076/bio23.swf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entury Gothic"/>
              </a:rPr>
              <a:t>These animations were used in summarizing DNA Replication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entury Gothic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ffff"/>
                </a:solidFill>
                <a:uFillTx/>
                <a:latin typeface="Century Gothic"/>
              </a:rPr>
              <a:t>http://www.youtube.com/watch?v=dIZpb93NYlw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entury Gothic"/>
              </a:rPr>
              <a:t>This video shows the DNA replication song that was part of assessment.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entury Gothic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ffff"/>
                </a:solidFill>
                <a:uFillTx/>
                <a:latin typeface="Century Gothic"/>
              </a:rPr>
              <a:t>http://www.explorelearning.com/index.cfm?method=cResource.dspDetail&amp;ResourceID=439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entury Gothic"/>
              </a:rPr>
              <a:t>This gizmo was used as an assessment tool at the end of the lessons.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entury Gothic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ffff"/>
                </a:solidFill>
                <a:uFillTx/>
                <a:latin typeface="Century Gothic"/>
              </a:rPr>
              <a:t>http://www.wiley.com/college/pratt/0471393878/student/animations/dna_replication/index.html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entury Gothic"/>
              </a:rPr>
              <a:t>This tutorial was used to clear any student misconceptions and reiterate the whole process of DNA replication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16" name=""/>
          <p:cNvSpPr txBox="1"/>
          <p:nvPr/>
        </p:nvSpPr>
        <p:spPr>
          <a:xfrm>
            <a:off x="717120" y="1447560"/>
            <a:ext cx="7969320" cy="520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Lesson 1: Discovery of DNA: A Review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499"/>
              </a:spcBef>
              <a:buClr>
                <a:srgbClr val="ff388c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cientists and experiments leading to the discovery of DNA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Lesson 2: DNA Structure:  A Review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499"/>
              </a:spcBef>
              <a:buClr>
                <a:srgbClr val="ff388c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e Chemical Composition of DNA, The Double Helix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Lesson 3: DNA Replicates Semi-Conservatively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499"/>
              </a:spcBef>
              <a:buClr>
                <a:srgbClr val="ff388c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e Meselson and Stahl Experimen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Lesson 4: The Process of DNA Replication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499"/>
              </a:spcBef>
              <a:buClr>
                <a:srgbClr val="ff388c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parating the DNA Strands, Building the Complementary Strands, DNA Repair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Lesson 5: Assessment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Title 1" descr=""/>
          <p:cNvPicPr/>
          <p:nvPr/>
        </p:nvPicPr>
        <p:blipFill>
          <a:blip r:embed="rId1"/>
          <a:stretch/>
        </p:blipFill>
        <p:spPr>
          <a:xfrm>
            <a:off x="182520" y="268200"/>
            <a:ext cx="7443720" cy="1371600"/>
          </a:xfrm>
          <a:prstGeom prst="rect">
            <a:avLst/>
          </a:prstGeom>
          <a:ln w="0">
            <a:noFill/>
          </a:ln>
        </p:spPr>
      </p:pic>
      <p:sp>
        <p:nvSpPr>
          <p:cNvPr id="318" name="PlaceHolder 1"/>
          <p:cNvSpPr>
            <a:spLocks noGrp="1"/>
          </p:cNvSpPr>
          <p:nvPr>
            <p:ph/>
          </p:nvPr>
        </p:nvSpPr>
        <p:spPr>
          <a:xfrm>
            <a:off x="380520" y="1633680"/>
            <a:ext cx="6813720" cy="44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700" spc="-1" strike="noStrike" u="sng">
                <a:solidFill>
                  <a:srgbClr val="ffffff"/>
                </a:solidFill>
                <a:uFillTx/>
                <a:latin typeface="Century Gothic"/>
              </a:rPr>
              <a:t>Overall Expectations</a:t>
            </a: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  <a:p>
            <a:pPr marL="27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700" spc="-1" strike="noStrike">
                <a:solidFill>
                  <a:srgbClr val="ffffff"/>
                </a:solidFill>
                <a:latin typeface="Century Gothic"/>
              </a:rPr>
              <a:t>D2. investigate, through laboratory activities, the structures of cell components and their roles in processes that occur within the cell;</a:t>
            </a: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  <a:p>
            <a:pPr marL="27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700" spc="-1" strike="noStrike">
                <a:solidFill>
                  <a:srgbClr val="ffffff"/>
                </a:solidFill>
                <a:latin typeface="Century Gothic"/>
              </a:rPr>
              <a:t>D3. demonstrate an understanding of concepts related to molecular genetics, and how genetic modification is applied in industry and agriculture.</a:t>
            </a: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  <a:p>
            <a:pPr marL="27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  <a:p>
            <a:pPr marL="27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700" spc="-1" strike="noStrike" u="sng">
                <a:solidFill>
                  <a:srgbClr val="ffffff"/>
                </a:solidFill>
                <a:uFillTx/>
                <a:latin typeface="Century Gothic"/>
              </a:rPr>
              <a:t>Specific Expectations</a:t>
            </a: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  <a:p>
            <a:pPr marL="27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700" spc="-1" strike="noStrike">
                <a:solidFill>
                  <a:srgbClr val="ffffff"/>
                </a:solidFill>
                <a:latin typeface="Century Gothic"/>
              </a:rPr>
              <a:t>D2.2 analyse a simulated strand of DNA to determine</a:t>
            </a: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  <a:p>
            <a:pPr marL="27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700" spc="-1" strike="noStrike">
                <a:solidFill>
                  <a:srgbClr val="ffffff"/>
                </a:solidFill>
                <a:latin typeface="Century Gothic"/>
              </a:rPr>
              <a:t>the genetic code and base pairing of DNA (e.g., determine base sequences of DNA for a protein; analyse base sequences in DNA to recognize an anomaly) [AI]</a:t>
            </a: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  <a:p>
            <a:pPr marL="27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700" spc="-1" strike="noStrike">
                <a:solidFill>
                  <a:srgbClr val="ffffff"/>
                </a:solidFill>
                <a:latin typeface="Century Gothic"/>
              </a:rPr>
              <a:t>D3.1 explain the current model of DNA replication, and describe the different repair mechanisms that can correct mistakes in DNA sequencing</a:t>
            </a: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  <a:p>
            <a:pPr marL="27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  <a:p>
            <a:pPr marL="27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Title 1" descr=""/>
          <p:cNvPicPr/>
          <p:nvPr/>
        </p:nvPicPr>
        <p:blipFill>
          <a:blip r:embed="rId1"/>
          <a:stretch/>
        </p:blipFill>
        <p:spPr>
          <a:xfrm>
            <a:off x="450720" y="171360"/>
            <a:ext cx="8242560" cy="141300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 txBox="1"/>
          <p:nvPr/>
        </p:nvSpPr>
        <p:spPr>
          <a:xfrm>
            <a:off x="457200" y="120024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16160" indent="-355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ffffff"/>
                </a:solidFill>
                <a:latin typeface="Century Gothic"/>
              </a:rPr>
              <a:t>Scientists such as Hammerling, Griffith, Hershey and Chase, Chargaff, Franklin and Wilkins, Watson and Crick conducted experiments that led to better understanding of DNA and its structure. Slides with </a:t>
            </a:r>
            <a:r>
              <a:rPr b="1" lang="en-CA" sz="3000" spc="-1" strike="noStrike">
                <a:solidFill>
                  <a:srgbClr val="ffffff"/>
                </a:solidFill>
                <a:latin typeface="Century Gothic"/>
              </a:rPr>
              <a:t>M/C questions and clickers</a:t>
            </a:r>
            <a:r>
              <a:rPr b="0" lang="en-CA" sz="3000" spc="-1" strike="noStrike">
                <a:solidFill>
                  <a:srgbClr val="ffffff"/>
                </a:solidFill>
                <a:latin typeface="Century Gothic"/>
              </a:rPr>
              <a:t> may be used to review this information with the students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16160" indent="-355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ffffff"/>
                </a:solidFill>
                <a:latin typeface="Century Gothic"/>
              </a:rPr>
              <a:t>Students complete a DNA timeline scavenger hunt 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764640" indent="-265680">
              <a:spcBef>
                <a:spcPts val="649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 u="sng">
                <a:solidFill>
                  <a:srgbClr val="17bbfd"/>
                </a:solidFill>
                <a:uFillTx/>
                <a:latin typeface="Century Gothic"/>
                <a:hlinkClick r:id="rId2"/>
              </a:rPr>
              <a:t>http://www.dnai.org/timeline/index.html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16160" indent="-355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Title 1" descr=""/>
          <p:cNvPicPr/>
          <p:nvPr/>
        </p:nvPicPr>
        <p:blipFill>
          <a:blip r:embed="rId1"/>
          <a:stretch/>
        </p:blipFill>
        <p:spPr>
          <a:xfrm>
            <a:off x="450720" y="212760"/>
            <a:ext cx="8242560" cy="145728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 txBox="1"/>
          <p:nvPr/>
        </p:nvSpPr>
        <p:spPr>
          <a:xfrm>
            <a:off x="457200" y="1666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Students are shown the following video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499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17bbfd"/>
                </a:solidFill>
                <a:uFillTx/>
                <a:latin typeface="Century Gothic"/>
                <a:hlinkClick r:id="rId2"/>
              </a:rPr>
              <a:t>http://www.youtube.com/watch?v=ZGHkHMoyC5I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Students build DNA molecules in pairs (Activity # 1)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Teacher goes over discussion questions with the class. Any gaps in knowledge are filled and misconceptions are corrected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23" name="Picture 6" descr=""/>
          <p:cNvPicPr/>
          <p:nvPr/>
        </p:nvPicPr>
        <p:blipFill>
          <a:blip r:embed="rId3"/>
          <a:stretch/>
        </p:blipFill>
        <p:spPr>
          <a:xfrm>
            <a:off x="2225520" y="4083120"/>
            <a:ext cx="4924440" cy="26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Title 1" descr=""/>
          <p:cNvPicPr/>
          <p:nvPr/>
        </p:nvPicPr>
        <p:blipFill>
          <a:blip r:embed="rId1"/>
          <a:stretch/>
        </p:blipFill>
        <p:spPr>
          <a:xfrm>
            <a:off x="450720" y="212760"/>
            <a:ext cx="8242560" cy="145728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 txBox="1"/>
          <p:nvPr/>
        </p:nvSpPr>
        <p:spPr>
          <a:xfrm>
            <a:off x="457200" y="1666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407520" indent="-348120">
              <a:lnSpc>
                <a:spcPct val="80000"/>
              </a:lnSpc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What is semi-conservative replication?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748080" indent="-259920">
              <a:lnSpc>
                <a:spcPct val="80000"/>
              </a:lnSpc>
              <a:spcBef>
                <a:spcPts val="60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What do you notice?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748080" indent="-259920">
              <a:lnSpc>
                <a:spcPct val="80000"/>
              </a:lnSpc>
              <a:spcBef>
                <a:spcPts val="60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748080" indent="-259920">
              <a:lnSpc>
                <a:spcPct val="80000"/>
              </a:lnSpc>
              <a:spcBef>
                <a:spcPts val="60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748080" indent="-259920">
              <a:lnSpc>
                <a:spcPct val="80000"/>
              </a:lnSpc>
              <a:spcBef>
                <a:spcPts val="60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748080" indent="-259920">
              <a:lnSpc>
                <a:spcPct val="80000"/>
              </a:lnSpc>
              <a:spcBef>
                <a:spcPts val="60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748080" indent="-259920">
              <a:lnSpc>
                <a:spcPct val="80000"/>
              </a:lnSpc>
              <a:spcBef>
                <a:spcPts val="60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748080" indent="-259920">
              <a:lnSpc>
                <a:spcPct val="80000"/>
              </a:lnSpc>
              <a:spcBef>
                <a:spcPts val="60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748080" indent="-2599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748080" indent="-2599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748080" indent="-259920">
              <a:lnSpc>
                <a:spcPct val="80000"/>
              </a:lnSpc>
              <a:spcBef>
                <a:spcPts val="60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Based on your knowledge of DNA structure, how do you think this occurs?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748080" indent="-2599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26" name="Picture 8" descr=""/>
          <p:cNvPicPr/>
          <p:nvPr/>
        </p:nvPicPr>
        <p:blipFill>
          <a:blip r:embed="rId2"/>
          <a:stretch/>
        </p:blipFill>
        <p:spPr>
          <a:xfrm>
            <a:off x="1911240" y="2490840"/>
            <a:ext cx="5591160" cy="274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Title 1" descr=""/>
          <p:cNvPicPr/>
          <p:nvPr/>
        </p:nvPicPr>
        <p:blipFill>
          <a:blip r:embed="rId1"/>
          <a:stretch/>
        </p:blipFill>
        <p:spPr>
          <a:xfrm>
            <a:off x="450720" y="212760"/>
            <a:ext cx="8431200" cy="1457280"/>
          </a:xfrm>
          <a:prstGeom prst="rect">
            <a:avLst/>
          </a:prstGeom>
          <a:ln w="0">
            <a:noFill/>
          </a:ln>
        </p:spPr>
      </p:pic>
      <p:sp>
        <p:nvSpPr>
          <p:cNvPr id="328" name=""/>
          <p:cNvSpPr txBox="1"/>
          <p:nvPr/>
        </p:nvSpPr>
        <p:spPr>
          <a:xfrm>
            <a:off x="457200" y="1689120"/>
            <a:ext cx="8229600" cy="47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Hypothesis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Objective: Is DNA replication conservative, semi-conservative or dispersive?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29" name="Picture 4" descr=""/>
          <p:cNvPicPr/>
          <p:nvPr/>
        </p:nvPicPr>
        <p:blipFill>
          <a:blip r:embed="rId2"/>
          <a:srcRect l="0" t="0" r="0" b="30756"/>
          <a:stretch/>
        </p:blipFill>
        <p:spPr>
          <a:xfrm>
            <a:off x="1503360" y="2449440"/>
            <a:ext cx="5608800" cy="2121120"/>
          </a:xfrm>
          <a:prstGeom prst="rect">
            <a:avLst/>
          </a:prstGeom>
          <a:ln w="0">
            <a:noFill/>
          </a:ln>
        </p:spPr>
      </p:pic>
      <p:sp>
        <p:nvSpPr>
          <p:cNvPr id="330" name="Text Box 6"/>
          <p:cNvSpPr/>
          <p:nvPr/>
        </p:nvSpPr>
        <p:spPr>
          <a:xfrm>
            <a:off x="2120760" y="2065320"/>
            <a:ext cx="174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onservativ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Text Box 7"/>
          <p:cNvSpPr/>
          <p:nvPr/>
        </p:nvSpPr>
        <p:spPr>
          <a:xfrm>
            <a:off x="3691080" y="2098800"/>
            <a:ext cx="193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emi-Conservativ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Text Box 8"/>
          <p:cNvSpPr/>
          <p:nvPr/>
        </p:nvSpPr>
        <p:spPr>
          <a:xfrm>
            <a:off x="5595840" y="2077920"/>
            <a:ext cx="133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ispersiv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/>
          </p:nvPr>
        </p:nvSpPr>
        <p:spPr>
          <a:xfrm>
            <a:off x="220680" y="320760"/>
            <a:ext cx="316224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5c9c"/>
                </a:solidFill>
                <a:latin typeface="Century Gothic"/>
              </a:rPr>
              <a:t>Meselson and Stahl Experiment (Continued)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Experiment explained using overhead 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Following animation explaining experiment shown: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400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7bbfd"/>
                </a:solidFill>
                <a:uFillTx/>
                <a:latin typeface="Century Gothic"/>
                <a:hlinkClick r:id="rId1"/>
              </a:rPr>
              <a:t>http://highered.mcgraw-hill.com/olc/dl/120076/bio22.swf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Students complete the virtual lab and assessed (quiz #1)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400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7bbfd"/>
                </a:solidFill>
                <a:uFillTx/>
                <a:latin typeface="Century Gothic"/>
                <a:hlinkClick r:id="rId2"/>
              </a:rPr>
              <a:t>http://www.sumanasinc.com/webcontent/animations/content/meselson.html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3651120" y="320400"/>
            <a:ext cx="5276880" cy="59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35" name="Picture 2" descr="http://www.nvo.com/jin/nss-folder/scrapbookcell/Meselson1stahl.jpg"/>
          <p:cNvPicPr/>
          <p:nvPr/>
        </p:nvPicPr>
        <p:blipFill>
          <a:blip r:embed="rId3"/>
          <a:stretch/>
        </p:blipFill>
        <p:spPr>
          <a:xfrm>
            <a:off x="3651120" y="0"/>
            <a:ext cx="5276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3T10:12:13Z</dcterms:created>
  <dc:creator>Rebecca Lostracco</dc:creator>
  <dc:description/>
  <dc:language>en-US</dc:language>
  <cp:lastModifiedBy>Jess</cp:lastModifiedBy>
  <dcterms:modified xsi:type="dcterms:W3CDTF">2011-11-10T02:39:58Z</dcterms:modified>
  <cp:revision>135</cp:revision>
  <dc:subject/>
  <dc:title>Teaching the Concept of Protein Synthesis Rebecca Lostracco Jacqueline McCann</dc:title>
</cp:coreProperties>
</file>